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  <p:sldId id="387" r:id="rId145"/>
  </p:sldIdLst>
  <p:sldSz cx="9144000" cy="6858000"/>
  <p:notesSz cx="6994525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slide" Target="slides/slide132.xml"/><Relationship Id="rId1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3456-24E9-4DB4-8624-6475004D7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DBB2-383B-4B1E-9DD6-3972732B213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B6BB4-A26A-4FA6-B9BC-093D5976FE3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741B4-BEF5-404E-8FBA-CB439906BF1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1EA68-055C-4CCD-88DE-73DA9BCE5FC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216FB-C548-4754-A7E2-A2BFEAE101C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41A10-9BD6-47CD-9EF2-1F22F14CBF2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D0D8F-3271-47C9-860C-9ED5917519E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C0602-518F-4D78-8D84-58F3A90BD33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58243-F606-421B-85A3-9829331E103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4ACF7-5DB3-4611-AB31-17CFA8B0093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106716-6EAC-42EC-8656-E18198FB7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3C6C0-60EE-480B-9AA2-7760941F8C4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5FCD98-5FAC-4329-B597-8D90622C575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76B56-E2FE-46F8-9315-08970A81B73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CB3A6D-E6F8-41A7-9949-218330AA36F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D960F-8C04-43E8-AEF8-1C31503DF71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42A6BD-B0E0-4C97-AFBC-E7215231B92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36A19-F526-4ABC-BA8E-E689366A788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A5F01-796E-475D-AB0C-B4633CF4847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E6AE6-75BE-4329-81B6-860E60FEFB6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DD97D-809A-48F0-AA0C-2C80E5062E9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A96CA-977E-4E8A-96E9-C9A0F366E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0FFF0-8859-4C9B-8E0C-D6571B2D3F1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B1F715-DCBC-469C-A104-85C1D851B78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B40F45-2D6B-46BB-8047-E7338E43AA3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7DCC99-3EFF-40E5-8073-013B1C4676D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B4F391-E447-4A05-9D74-035063381E8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487FEF-4A3E-4639-A1EE-A2DA7E7E77F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8BF10D-ADA6-4B37-A3D5-12B9E6E31B6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945D73-A06A-4D90-A471-D052A3DA378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582567-0CDE-4004-B832-ADACBBA1E16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54F416-9573-489C-8516-4460D55D3B4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5D5AC3-5E0E-4BB7-B539-179180782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46FE7-17DC-43E2-96E3-A8BEA36C2DF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13763C-174E-443C-9DE0-88CC263BAAF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0C4430-1C35-4336-AF7D-30662B58CB6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2B672D-1558-4CA4-8F37-D39AFB08257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FE8F1-D19E-46B7-A592-8CC88E7ACE3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6973B-C813-44C5-A4A2-92983DC2F7D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A4938-5395-4197-A254-9C5DE5284ED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4E273-45EF-44FA-8746-CFB08E53E7C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DDFC2-778E-4FA0-9ED5-3ECB2458C01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447E6-0F03-4425-AC3C-5FBE662F2E7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5C01A-AC9B-40E3-BC79-4DF80EFE9A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F5341-2B91-4CDC-A922-C2058314D8C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E6C7D-8068-49FA-B752-E250C4838DE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6A7A2-7CE4-4590-B497-7BC3949A17D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23AB7-895F-4879-A3AC-ACE6D01218E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BB12E-DF53-41C3-AF74-9A9B4EA1970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C3525-E81F-43FC-842F-E7CF59C51D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C08D8-85C2-4F38-A84A-9E9C17EDCD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7D3D7-C254-4807-8F8B-0AEF176A6E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ACFE8-1238-41AA-81C8-74172230B8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94226-658A-468C-9981-D6CE1FE7B1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0D1A4-8B0D-4A5E-B8BA-2DB8223B19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909A-3D24-4FEE-86B2-995DCE192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E3E9E-7137-49D8-8A62-8E80E9A58B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98C19-8C4A-4A04-BD18-8B92D65515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C715B-846C-4663-8B31-8480654BC5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CD487-857F-429E-8DCA-33D89C3A7F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0CE06-A09F-4705-82B8-75255CE077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2AA3-AF64-493B-808E-ECFC1B0129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E3CF-C586-4C7F-9793-FC3E443A07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38F5-4059-464D-BF28-8F53341E25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E0FD-3658-4EE4-8EF0-B79F05B155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7930-9D3C-4B15-B820-B393BE7065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EBE10-B50D-49F1-A8CD-7E3AAD8F15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4AC0-0CA8-463E-8320-7D0E66BC77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6209-B16F-4BB1-9FAA-96087D6E7A3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500F-6F60-4620-BCDD-DA72FFC67B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5B19-D5B6-48F2-B047-C10B222CD4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CE7F-2589-4D54-B788-4D0290F045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3D43-C8D1-49EA-9148-EB6B90110C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D6FB-68CF-4543-9086-307E4BB860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9F941-BFB4-4729-9119-F5ABD1DF10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609DE-43C5-4C35-9C39-DA4924B623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08EA5-8F7C-4C72-98CC-7298A021B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D3C1-5B53-4F38-A6FA-199A5060CA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5A1E4-E077-4826-80EA-E0A4107E49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DE1E3-3242-47C1-9F7E-A5CD796944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2707D-C903-46AC-8A87-E744707085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F9046-100B-4EA3-925F-3FB2A4FDE4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92049-73E1-4161-BA25-EE5D7EB05F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EED2F-EC97-402C-AEB2-4E438CCD72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76E84-6A97-45A0-9406-68B2A48EBE4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31836-9A8E-407B-86BA-AAB0887594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25359-BD9F-48DA-97A5-F0A2C1201AC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19C96A-7B41-4CF2-AD00-9B0E922D2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97A86-23AD-4F23-B9A3-01369F0CECD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9E6413-FB56-4E8F-94D0-E7E0B3C2A30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FB64A4-1C7B-4A89-91B0-9D4C664724B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752E0A-1A4F-42F1-BCB1-7C901D73A09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DDC53E-BA70-4B7F-85E8-6214AD76C1F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6A87D-AF21-4CE6-81D9-D78BB1E525B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F63DA0-8519-40F9-BE37-C6E0DDDAFD9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CA7E24-A944-4169-9F54-50D40E8668D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A5CB52-174D-4693-9C61-72E4D2D3404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9D51AD-D544-4B25-B5F1-C6828245457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81988E-4915-4D11-A275-79F9262DC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3F3FF-5AE8-4B31-8D78-38494338D23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9B3B89-3543-42BE-AE73-7827B2821BB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756CB-66D2-4D56-B683-4369324E7D9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F590F-7FC2-486D-953A-E3FC2FCCA81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58B5A-FF46-4324-9055-0AC6C8292D4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3BD27-5F8C-49CE-910B-CFBBD97C8D3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3B5AD-4F81-46A4-B7E8-CED776AE0AE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C120-4A42-41B0-8FC1-BB94A29916A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82CDB-452E-4745-B2FE-F49911BE83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DF779-F67F-48D3-9374-E8ECCFA3358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54A7-D533-419A-8149-81E27FD4B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CFFE-B30B-4E3F-868C-B6F1237A372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02310-C896-4A4B-8FB1-E82FB0CC6FC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9D573-CFE2-467F-A16D-E5DB57EA729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B4277-621D-4455-B44C-42092FC89B2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64601-CE5B-4896-B7C7-2423394CDC5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42B49-CDF7-46D3-B169-9FA20B90BE1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74944-0A69-42CC-BF6A-74F1FBDF92C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5DF0DD-BB03-4B01-8706-8AAD05B1C4D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26AB1-F140-4112-A421-BB14F53416C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76343-7111-4303-95BB-728DC8A11AB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C0E479-40D8-4CAF-8657-A0E40693D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5DF7C-0A88-4472-A04C-AB9540F4292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7158C-34A1-4296-B07D-A0405E6FE29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1DB14-9525-407F-AC3A-1D8F3A3DBE4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8ED4A-F1F3-4036-BE37-0B6625C8787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8E953-F128-485A-948F-0A5CCD41003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9A666-86C7-4494-BB49-80249B06D69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0B9D3B-9265-45CF-95E4-6CF7AFB1B2F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D9A67A-0EDA-4ECB-BE6D-027868BAD47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62D8B9-A27C-4299-B3BF-81BA5CBF275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72050E-B977-45C1-A2AB-EDBB13E0CBF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EB5530-2058-42BE-AAD2-1159092B0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A26A0-88ED-40E2-8E2C-9AAA51B1672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BB7CBE-B56A-4409-B2E0-339FA50ADFA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B407B9-95E5-4FFE-BECE-20701CB4A30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00B18E-EDB5-40A6-B55D-8F5A9EAD5F0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DC8083-1977-4682-BCC3-180E6870BEB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D7C825-6C10-4B57-8835-893EA3BA451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54DA2F-D9D2-43DC-8E01-EF62BB2E96B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1B7753-E08D-4BC9-9B50-A1AE27CED7E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8B6F9-38E9-4B88-AEB2-8F380172F11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B76F1-BAC2-4D33-839E-1A3641C64DB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00A58-ACCB-4EEF-AF8F-4FA3C1E59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6357-DFFD-4750-9561-96323D67049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FD80-E512-4D60-A96E-530109338A8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B7F3-359D-4CFA-9479-0DA3F9DFC1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CBBB-F84E-4E43-8F57-111EEC72D12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2C30-2FC3-4BD6-AF07-B8423E0D713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5460-5528-4429-B277-E83C3FD6810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F650-018F-4461-B338-0C752AE2A8B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C98E-13DB-4C33-9718-D4CE9B774A1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4410-0C9A-4BC1-8FB3-4390BE2E9D3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3DA0-55C3-4446-BDA1-5B77EC106E4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DBEC-D6B6-4A54-A001-905900211D0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4310-FF37-4580-922D-F8BF3C6DF02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8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0709-57A2-4FCF-8702-002680025E5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hapter 17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dvanced Uses of Poin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allocates memory for a string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n +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character requires one byte of memory; adding 1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eaves room for the null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programmers prefer to ca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, although the cast is not requ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(char *) malloc(n +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E75B-45C5-4E2A-8FEA-625B73746DF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tric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quires that its parameters have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ut we can’t access the members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 throug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olve the proble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assign its parameter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o variabl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0636-4E73-4884-A7BB-8777DE47FFC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n be used to sor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into ascending order by part nu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struct part *p1 =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struct part *q1 =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1-&gt;number &lt; q1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 if (p1-&gt;number == q1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5CFB-8784-471B-A3B2-C36F6BE7301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C programmers would write the function more concis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(struct part *) p)-&gt;number 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 if (((struct part *) p)-&gt;number 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CF75-8F3A-4D02-9B13-96A8C479AB3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made even shorter by remov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((struct part *) p)-&gt;number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F8C2-71EB-45EC-A79A-8D27212E0D6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n be used to sor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by part name instead of part nu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strcmp(((struct part *) p)-&gt;nam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791B-F3AB-4DE8-9ADA-D32A2B40505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function pointers are often used as arguments, that’s not all they’re good f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treats pointers to functions just like pointers to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can be stored in variables or used as elements of an array or as members of a structure or un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’s even possible for functions to return function po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AFB1-1A23-4422-91E0-CABEC673478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variable that can store a pointer to a function with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arameter and a return typ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(*pf)(int)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uch a function, we can ma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the following w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f =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now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 writing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pf)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f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8FC2-8AE5-4E2A-8C00-E9911ABAEBE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array whose elements are function poin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(*file_cmd[])(void) = {new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lose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lose_all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ave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ave_as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ave_all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_cm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0ADF-F59F-4D20-906A-D5A167EDA5F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the function stored in positi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c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file_cmd[n])()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r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cmd[n]();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ould get a similar effect wit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, but using an array of function pointers provides more flex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65D5-5635-489B-97D2-63A561CACCE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Tabulating the Trigonometric Functions</a:t>
            </a:r>
            <a:endParaRPr b="0" lang="en-US" sz="29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prints tables showing the value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gram is built around a function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, when passed a function poi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prints a table showing the valu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us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e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given an argu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e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smallest integer that’s greater than or equa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BD91-5191-433D-885B-0DDA1922CB8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mory allocated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cleared, s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point to an uninitialized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1 charac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9D3D-CD31-4E02-BB93-C35C16B2453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7" descr=""/>
          <p:cNvPicPr/>
          <p:nvPr/>
        </p:nvPicPr>
        <p:blipFill>
          <a:blip r:embed="rId1"/>
          <a:stretch/>
        </p:blipFill>
        <p:spPr>
          <a:xfrm>
            <a:off x="2411280" y="2986200"/>
            <a:ext cx="4243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Tabulating the Trigonometric Functions</a:t>
            </a:r>
            <a:endParaRPr b="0" lang="en-US" sz="29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ession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nter initial value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  <a:ea typeface="新細明體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nter final value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  <a:ea typeface="新細明體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nter increment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  <a:ea typeface="新細明體"/>
              </a:rPr>
              <a:t>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x        cos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------    -----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00    1.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0000    0.995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20000    0.980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30000    0.955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40000    0.921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50000    0.877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BA1A-E12D-442F-B5AF-8C624B68D46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Tabulating the Trigonometric Functions</a:t>
            </a:r>
            <a:endParaRPr b="0" lang="en-US" sz="29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x        sin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------    -----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00    0.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0000    0.0998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20000    0.1986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30000    0.2955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40000    0.3894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50000    0.4794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x        tan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------    -----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00    0.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0000    0.1003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20000    0.2027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30000    0.309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40000    0.422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50000    0.546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CFA4-A093-4F76-96D3-C4172AEE7CA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Tabulates values of trigonometric function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math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tabulate(double (*f)(double), double fir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last, double inc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final, increment, initi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initial valu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lf", &amp;initi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final valu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lf", &amp;fin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increment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lf", &amp;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F89F-9106-40C6-8607-56395035B3C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      x        cos(x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\n   -------    -----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(cos, initial, final, 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      x        sin(x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\n   -------    -----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(sin, initial, final, 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      x        tan(x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\n   -------    -----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(tan, initial, final, 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tabulate(double (*f)(double), double fir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last, double inc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i, num_interva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intervals = ceil((last - first) / inc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= num_intervals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x = first + i * inc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10.5f %10.5f\n", x, (*f)(x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2294-AE22-4556-9DC8-486BEF658CA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unction as Argu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pic>
        <p:nvPicPr>
          <p:cNvPr id="966" name="Picture 2" descr=""/>
          <p:cNvPicPr/>
          <p:nvPr/>
        </p:nvPicPr>
        <p:blipFill>
          <a:blip r:embed="rId1"/>
          <a:stretch/>
        </p:blipFill>
        <p:spPr>
          <a:xfrm>
            <a:off x="1062000" y="1339920"/>
            <a:ext cx="1484280" cy="14587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3" descr=""/>
          <p:cNvPicPr/>
          <p:nvPr/>
        </p:nvPicPr>
        <p:blipFill>
          <a:blip r:embed="rId2"/>
          <a:stretch/>
        </p:blipFill>
        <p:spPr>
          <a:xfrm>
            <a:off x="927000" y="2817720"/>
            <a:ext cx="7661520" cy="3402000"/>
          </a:xfrm>
          <a:prstGeom prst="rect">
            <a:avLst/>
          </a:prstGeom>
          <a:ln w="0">
            <a:noFill/>
          </a:ln>
        </p:spPr>
      </p:pic>
      <p:sp>
        <p:nvSpPr>
          <p:cNvPr id="968" name="投影片編號版面配置區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C50A-0486-4597-8527-173991A29C8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6346800" cy="38880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2" descr=""/>
          <p:cNvPicPr/>
          <p:nvPr/>
        </p:nvPicPr>
        <p:blipFill>
          <a:blip r:embed="rId2"/>
          <a:stretch/>
        </p:blipFill>
        <p:spPr>
          <a:xfrm>
            <a:off x="971640" y="4653000"/>
            <a:ext cx="2543040" cy="1752480"/>
          </a:xfrm>
          <a:prstGeom prst="rect">
            <a:avLst/>
          </a:prstGeom>
          <a:ln w="0">
            <a:noFill/>
          </a:ln>
        </p:spPr>
      </p:pic>
      <p:sp>
        <p:nvSpPr>
          <p:cNvPr id="971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AA5E-1163-4ACB-AAAD-2D59FA8055C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05600" cy="18003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7886520" cy="1352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5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7416720" cy="1657440"/>
          </a:xfrm>
          <a:prstGeom prst="rect">
            <a:avLst/>
          </a:prstGeom>
          <a:ln w="0">
            <a:noFill/>
          </a:ln>
        </p:spPr>
      </p:pic>
      <p:sp>
        <p:nvSpPr>
          <p:cNvPr id="975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D2D5-AC6D-4649-9A37-73407EAF5FC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rrays of Pointers to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pic>
        <p:nvPicPr>
          <p:cNvPr id="977" name="Picture 2" descr=""/>
          <p:cNvPicPr/>
          <p:nvPr/>
        </p:nvPicPr>
        <p:blipFill>
          <a:blip r:embed="rId1"/>
          <a:stretch/>
        </p:blipFill>
        <p:spPr>
          <a:xfrm>
            <a:off x="741240" y="1268280"/>
            <a:ext cx="7661520" cy="4857840"/>
          </a:xfrm>
          <a:prstGeom prst="rect">
            <a:avLst/>
          </a:prstGeom>
          <a:ln w="0">
            <a:noFill/>
          </a:ln>
        </p:spPr>
      </p:pic>
      <p:sp>
        <p:nvSpPr>
          <p:cNvPr id="978" name="投影片編號版面配置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9A4C-09E6-4E16-B1EC-45A357FAD94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2" descr=""/>
          <p:cNvPicPr/>
          <p:nvPr/>
        </p:nvPicPr>
        <p:blipFill>
          <a:blip r:embed="rId1"/>
          <a:stretch/>
        </p:blipFill>
        <p:spPr>
          <a:xfrm>
            <a:off x="647640" y="81000"/>
            <a:ext cx="7848720" cy="6696000"/>
          </a:xfrm>
          <a:prstGeom prst="rect">
            <a:avLst/>
          </a:prstGeom>
          <a:ln w="0">
            <a:noFill/>
          </a:ln>
        </p:spPr>
      </p:pic>
      <p:sp>
        <p:nvSpPr>
          <p:cNvPr id="980" name="投影片編號版面配置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6D71-8B57-49A8-BC83-7EF3B99737F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540920" cy="4321080"/>
          </a:xfrm>
          <a:prstGeom prst="rect">
            <a:avLst/>
          </a:prstGeom>
          <a:ln w="0">
            <a:noFill/>
          </a:ln>
        </p:spPr>
      </p:pic>
      <p:sp>
        <p:nvSpPr>
          <p:cNvPr id="982" name="投影片編號版面配置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F18E-DDD9-4877-8290-BF53B3F5636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one way to initialize this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p, "ab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rst four characters in the array will now b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\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2444-8A2A-4334-9E01-969FB3119AD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"/>
          <p:cNvPicPr/>
          <p:nvPr/>
        </p:nvPicPr>
        <p:blipFill>
          <a:blip r:embed="rId1"/>
          <a:stretch/>
        </p:blipFill>
        <p:spPr>
          <a:xfrm>
            <a:off x="2424240" y="3538440"/>
            <a:ext cx="42307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3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5329440" cy="35035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2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6769080" cy="2643120"/>
          </a:xfrm>
          <a:prstGeom prst="rect">
            <a:avLst/>
          </a:prstGeom>
          <a:ln w="0">
            <a:noFill/>
          </a:ln>
        </p:spPr>
      </p:pic>
      <p:sp>
        <p:nvSpPr>
          <p:cNvPr id="985" name="投影片編號版面配置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393C-EE66-42E0-83BA-BD8D31544CE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99, the key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appear in the declaration of a poin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 restric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aid to be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tricted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tent is that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an object that is later modified, then that object is not accessed in any way other than thr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ving more than one way to access an object is often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ia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1D2B-ED01-4E8A-803C-DE48F423D9C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 the following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 restric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 restrict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rmally it would be legal to cop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then modify the integer thr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q 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 = 0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us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ndefin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restricted pointer, the effect of executing the state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ndef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96BB-2FE4-45C1-9A5E-A32F7FB3186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illustrate 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conside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99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copies bytes from one object (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another (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cpy(void * restrict s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void * restrict 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s that the objects to which they point shouldn’t overl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7D69-E435-4B1F-AE64-903C1635D43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ontrast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appear in the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move(void *s1, const void *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imilar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ut is guaranteed to work even if the source and destination overl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 of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shift the elements of an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a[10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(&amp;a[0], &amp;a[1], 99 * 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6722-DBA4-4EAB-BB84-B720B5CD394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ior to C99, there was no way to document the difference betwe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totypes for the two functions were nearly identic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cpy(void *s1, const void *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move(void *s1, const void *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the C99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prototype is a warning tha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bjects should not overl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84BF-6570-4B48-AA6A-CB8232DDFA0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information to the compiler that may enable it to produce more efficient code—a process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tim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99 standard guarantee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no effect on the behavior of a program that conforms to the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programmers won’t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unless they’re fine-tuning a program to achieve the best possible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D55D-094E-4230-8470-1B8A9C484F3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casionally, we’ll need to define a structure that contains an array of an unknown siz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xample, we might want a structure that stores the characters in a string together with the string’s length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l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hars[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a fixed-length array is undesirable: it limits the length of the string and wastes memor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3CFB-7F8D-417B-B058-B07A7F26093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programmers traditionally solve this problem by declaring the length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1 and then dynamically allocating each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len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hars[1]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*str 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vstring) + n - 1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-&gt;len = n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technique is known as the “struct hack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4855-5ACE-4858-BA64-86E3EE67D2B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ruct hack is supported by many compi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(including GCC) even allow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to have zero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89 standard doesn’t guarantee that the struct hack will work, but a C99 feature known a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exible array me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rves the same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70A3-5E88-489A-AE74-D3673F1E0E4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makes it possible to write functions that return a pointer to a “new”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 the problem of writing a function that concatenates two strings without changing either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 will measure the lengths of the two strings to be concatenated, then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llocate the right amount of space for the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9023-1F84-4CFB-A648-CB38D7DE27C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last member of a structure is an array, its length may be omitt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le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hars[]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lexible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rray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ber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C99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only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ength of the array isn’t determined until memory is allocated for a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v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*str =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vstring) + n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-&gt;len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gnores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when computing the size of the stru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6A59-D0E9-4D18-9DC7-5A5C3AC062B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al rules for structures that contain a flexible array 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lexible array must be the last me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ructure must have at least one other me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pying a structure that contains a flexible array member will copy the other members but not the flexible array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DDE7-82E2-4F36-8994-A4E7D04B6C6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tructure that contains a flexible array member is an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omplete typ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complete type is missing part of the information needed to determine how much memory it requir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omplete types are subject to various restric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particular, an incomplete type can’t be a member of another structure or an element of an arra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an array may contain pointers to structures that have a flexible array memb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D865-A7BB-4A9B-A38F-41083D7AF8E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4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concat(const char *s1, const char *s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resu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trlen(s1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len(s2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result == NULL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\n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result, s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at(result, s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626F-90EB-4223-8E73-DD57DAA65B1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concat("abc", "de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the call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point to 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cdef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is stored in a dynamically allocated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9CDF-68DA-4D05-BBAC-7794FD720B7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dynamically allocate storage must be used with c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string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is no longer needed, we’ll want to call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o release the space that the string occup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don’t, the program may eventually run out of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8FB4-6336-4912-A2DD-880A7DBA831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Printing a One-Month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minder List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is based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of Chapter 13, which prints a one-month list of daily remin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rigin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stores reminder strings in a two-dimensional array of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new program, the array will be one-dimensional; its elements will be pointers to dynamically allocated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D3CB-68D0-4D70-890E-419BDC45F1D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Printing a One-Month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minder List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tages of switching to dynamically allocated str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s space more efficiently by allocating the exact number of characters needed to store a rem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oids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existing reminder strings in order to make room for a new rem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witching from a two-dimensional array to an array of pointers requires changing only eight lines of the program (shown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D06D-B243-4AFF-9577-203F2EE2CEA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2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Prints a one-month reminder list (dynamic string versio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MAX_REMIND 50   /* maximum number of reminder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MSG_LEN 60      /* max length of reminder messag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read_line(char str[], int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reminders[MAX_REMI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day_str[3], msg_str[MSG_LEN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day, i, j, num_remind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562B-FA7A-439E-819D-327F4D7B789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 Storage Alloca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’s data structures, including arrays, are normally fixed i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xed-size data structures can be a problem, since we’re forced to choose their sizes when writing a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tunately, C suppor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ability to allocate storage during program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dynamic storage allocation, we can design data structures that grow (and shrink)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1A0C-18AB-4878-9905-04F1EFDD8BA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;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um_remind == MAX_REMIN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-- No space left 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day and remind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2d", &amp;da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day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(day_str, "%2d", da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d_line(msg_str, MSG_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um_remind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strcmp(day_str, reminders[i]) &l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j = num_remind; j &gt; i; j-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ers[j] = reminders[j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56D7-CB72-4E58-AED1-EFE72E0807B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ers[i] = malloc(2 + strlen(msg_str) +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reminders[i]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-- No space left 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reminders[i], day_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at(reminders[i], msg_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remind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Day Reminder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um_remind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 %s\n", reminders[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F429-30AB-4B31-A99A-4FEF879B323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read_line(char str[]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h, 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(ch = getchar()) != '\n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i &lt;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[i++] =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[i] = '\0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E8D1-12AB-48DB-B998-1FF65392339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ally Allocated Array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ally allocated arrays have the same advantages as dynamically allocated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lose relationship between arrays and pointers makes a dynamically allocated array as easy to use as an ordinary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allocate space for an array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sometimes used instead, since it initializes the memory that it alloc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allows us to make an array “grow” or “shrink”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C179-461D-4EEB-9CFC-2315FE18D06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Storage for an Array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se a program needs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egers, whe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mputed during program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first declare a pointer vari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known, the program can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llocate space for the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 = malloc(n * 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to calculate the amount of space required for each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D659-66FF-4B36-B31A-A93DBB20B0E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Storage for an Array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now ignore the fact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 and use it instead as an array name, thanks to the relationship between arrays and pointers in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xample, we could use the following loop to initialize the array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[i]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also have the option of using pointer arithmetic instead of subscripting to access the elements of the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E10F-4FE5-4414-9AE1-BF4B7311FC9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c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an alternativ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calloc(size_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memb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perti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cates space for an array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mem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lements, each of which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s a null pointer if the requested space isn’t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itializes allocated memory by setting all bits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9F05-2C80-4E5A-AC21-F3066C855C4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c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allocates space for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eg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 = calloc(n, 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 as its first argument, we can allocate space for a data item of any ty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oint { int x, y; }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calloc(1, sizeof(struct po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7835-0CFA-4635-98C1-2F86B0D59C2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re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can resize a dynamically allocated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realloc(void *ptr, 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point to a memory block obtained by a previous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presents the new size of the block, which may be larger or smaller than the original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1826-1D44-43C9-8D7A-B8AF6CBE37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re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perti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it expands a memory block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initialize the bytes that are added to the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’t enlarge the memory block as requested, it returns a null pointer; the data in the old memory block is un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 with a null pointer as its first argument, it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 with 0 as its second argument, it frees the memory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1592-511A-458E-A76D-5CBFEDA31D5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 Storage Alloca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used most often for strings, arrays, and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ally allocated structures can be linked together to form lists, trees, and other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done by calling a memory allocati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CBB0-709D-4444-9DEE-D94316BBCB8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re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expect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reasonably efficien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sked to reduce the size of a memory block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shrink the block “in place.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always attempt to expand a memory block without moving i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can’t enlarge a block,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allocate a new block elsewhere, then copy the contents of the old block into the new o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returned, be sure to update all pointers to the memory block in case it has been mov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FD29-DA08-47B1-8401-D0AF144B474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the other memory allocation functions obtain memory blocks from a storage pool known a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these functions too often—or asking them for large blocks of memory—can exhaust the heap, causing the functions to return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make matters worse, a program may allocate blocks of memory and then lose track of them, thereby wasting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1E70-14AC-4F41-8B58-F5622152F71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…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q = malloc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q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napshot after the first two statements have been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ED15-CD0F-470E-B50A-E70A56D7BA2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6" descr=""/>
          <p:cNvPicPr/>
          <p:nvPr/>
        </p:nvPicPr>
        <p:blipFill>
          <a:blip r:embed="rId1"/>
          <a:stretch/>
        </p:blipFill>
        <p:spPr>
          <a:xfrm>
            <a:off x="3276720" y="4243320"/>
            <a:ext cx="246996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ssigned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oth variables now point to the second memory b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no pointers to the first block, so we’ll never be able to use it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FDC7-A47B-48DD-8D75-A23E480F890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6" descr=""/>
          <p:cNvPicPr/>
          <p:nvPr/>
        </p:nvPicPr>
        <p:blipFill>
          <a:blip r:embed="rId1"/>
          <a:stretch/>
        </p:blipFill>
        <p:spPr>
          <a:xfrm>
            <a:off x="3282840" y="2541600"/>
            <a:ext cx="25084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lock of memory that’s no longer accessible to a program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rb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program that leaves garbage behind ha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mory l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languages provide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rbage coll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automatically locates and recycles garbage, but C doesn’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, each C program is responsible for recycling its own garbage by call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o release unneeded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03B9-AACC-46E9-86DF-7854ABA92B0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free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free(void *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be passed a pointer to an unneeded memory b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q = malloc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leases the block of memory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1EB6-12A2-4A66-9974-F17D306FDC7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“Dangling Pointer” Proble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eads to a new problem: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ngling poin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eallocates the memory block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, but doesn’t chang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self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forget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 longer points to a valid memory block, chaos may ensu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p = malloc(4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p, "abc");   /*** WRONG **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ying the memory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is a serious err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62B5-06D8-49E5-9646-88569BD95AB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“Dangling Pointer” Proble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ngling pointers can be hard to spot, since several pointers may point to the same block of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block is freed, all the pointers are left dang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42C1-B4C1-4B8F-8400-06087F00D99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Linked Lis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especially useful for building lists, trees, graphs, and other linked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ked 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sists of a chain of structures (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with each node containing a pointer to the next node in the ch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ast node in the list contai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607F-4EA9-4973-86BA-5DF1A59D36B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6" descr=""/>
          <p:cNvPicPr/>
          <p:nvPr/>
        </p:nvPicPr>
        <p:blipFill>
          <a:blip r:embed="rId1"/>
          <a:stretch/>
        </p:blipFill>
        <p:spPr>
          <a:xfrm>
            <a:off x="2286000" y="4425840"/>
            <a:ext cx="448164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Linked Lis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inked list is more flexible than an array: we can easily insert and delete nodes in a linked list, allowing the list to grow and shrink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the other hand, we lose the “random access” capability of an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y element of an array can be accessed in the same amount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ing a node in a linked list is fast if the node is close to the beginning of the list, slow if it’s near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BF0A-6A4F-4735-A8E7-92FB9E81953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emory Allocation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lib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 declares three memory allocation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Allocates a block of memory but doesn’t initializ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Allocates a block of memory and clear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Resizes a previously allocated block of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return a value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a “generic” poin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4AA3-BEE5-41A8-8B3B-0D1C2A71CA5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claring a Node Typ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et up a linked list, we’ll need a structure that represents a single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ode structure will contain data (an integer in this example) plus a pointer to the next node in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alue;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or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nex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poin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ex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a tag, 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ame, or there would be no way to declare the typ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39D6-E3AE-47A3-B1E8-8B2372E0D58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claring a Node Typ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xt, we’ll need a variable that always points to the first node in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firs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s that the list is initially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7ABC-C20D-4608-815E-25366ECD3E3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reating a Nod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we construct a linked list, we’ll create nodes one by one, adding each to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ps involved in creating a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cate memory for the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ore data in the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ert the node into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concentrate on the first two steps for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63E6-5C95-4FEB-AC66-5A44CB22243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reating a Nod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we create a node, we’ll need a variable that can point to the node temporari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llocate memory for the new node, saving the return valu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w points to a block of memory just large enough to hol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B5A5-4014-4BC6-9CEF-1DC8AABF05C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Picture 6" descr=""/>
          <p:cNvPicPr/>
          <p:nvPr/>
        </p:nvPicPr>
        <p:blipFill>
          <a:blip r:embed="rId1"/>
          <a:stretch/>
        </p:blipFill>
        <p:spPr>
          <a:xfrm>
            <a:off x="2857680" y="5291280"/>
            <a:ext cx="336384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reating a Nod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xt, we’ll store data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of the new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new_node).value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esulting pi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arentheses aro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mandatory beca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would otherwise take precedence ove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0455-3556-4E0A-845F-A832419D494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Picture 6" descr=""/>
          <p:cNvPicPr/>
          <p:nvPr/>
        </p:nvPicPr>
        <p:blipFill>
          <a:blip r:embed="rId1"/>
          <a:stretch/>
        </p:blipFill>
        <p:spPr>
          <a:xfrm>
            <a:off x="2846520" y="3576600"/>
            <a:ext cx="33638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-&gt;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Operator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ing a member of a structure using a pointer is so common that C provides a special operator for this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operator,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ight arrow selectio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inus sign follow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, we can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new_node).value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D6AA-7E51-4878-ABF9-C430493F153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-&gt;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Operator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produces an lvalue, so we can use it wherever an ordinary variable would be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ew_node-&gt;val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is still required, even th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3C79-34F2-4445-9726-A895B7599D6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the advantages of a linked list is that nodes can be added at any point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the beginning of a list is the easiest place to insert a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s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ointing to the node to be inserted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ointing to the first node in the linked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074B-FD17-4CC7-B0D4-3AE0EB3BF73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takes two statements to insert the node into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rst step is to modify the new node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to point to the node that was previously at the beginning of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fir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econd step is to ma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 to the new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ew_n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statements work even if the list is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6615-2E9B-4ACC-8D3D-92E8D809690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t’s trace the process of inserting two nodes into an empty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insert a node containing the number 10 first, followed by a node containing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B2B4-BADB-43AD-80DB-0D89BBA35E8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Null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memory allocation function can’t locate a memory block of the requested size, it return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ull pointer is a special value that can be distinguished from all valid po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we’ve stored the function’s return value in a pointer variable, we must test to see if it’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575E-A81C-4732-AEEC-44F85BDE6CF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node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8" descr=""/>
          <p:cNvPicPr/>
          <p:nvPr/>
        </p:nvPicPr>
        <p:blipFill>
          <a:blip r:embed="rId1"/>
          <a:stretch/>
        </p:blipFill>
        <p:spPr>
          <a:xfrm>
            <a:off x="4708440" y="3352680"/>
            <a:ext cx="3686400" cy="12636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48C0-0143-4840-8604-2B8275D3C12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icture 6" descr=""/>
          <p:cNvPicPr/>
          <p:nvPr/>
        </p:nvPicPr>
        <p:blipFill>
          <a:blip r:embed="rId2"/>
          <a:stretch/>
        </p:blipFill>
        <p:spPr>
          <a:xfrm>
            <a:off x="4699080" y="1676520"/>
            <a:ext cx="1365120" cy="12398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9" descr=""/>
          <p:cNvPicPr/>
          <p:nvPr/>
        </p:nvPicPr>
        <p:blipFill>
          <a:blip r:embed="rId3"/>
          <a:stretch/>
        </p:blipFill>
        <p:spPr>
          <a:xfrm>
            <a:off x="4695840" y="4952880"/>
            <a:ext cx="3686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fir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node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9" descr=""/>
          <p:cNvPicPr/>
          <p:nvPr/>
        </p:nvPicPr>
        <p:blipFill>
          <a:blip r:embed="rId1"/>
          <a:stretch/>
        </p:blipFill>
        <p:spPr>
          <a:xfrm>
            <a:off x="4687920" y="4956120"/>
            <a:ext cx="3701880" cy="122256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AB47-5007-47B1-8138-3ABBB8B8705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6" descr=""/>
          <p:cNvPicPr/>
          <p:nvPr/>
        </p:nvPicPr>
        <p:blipFill>
          <a:blip r:embed="rId2"/>
          <a:stretch/>
        </p:blipFill>
        <p:spPr>
          <a:xfrm>
            <a:off x="4686480" y="1685880"/>
            <a:ext cx="3708360" cy="12286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7" descr=""/>
          <p:cNvPicPr/>
          <p:nvPr/>
        </p:nvPicPr>
        <p:blipFill>
          <a:blip r:embed="rId3"/>
          <a:stretch/>
        </p:blipFill>
        <p:spPr>
          <a:xfrm>
            <a:off x="4726080" y="3368520"/>
            <a:ext cx="367956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fir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E907-632F-4D98-82BD-C19E1186D47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Picture 6" descr=""/>
          <p:cNvPicPr/>
          <p:nvPr/>
        </p:nvPicPr>
        <p:blipFill>
          <a:blip r:embed="rId1"/>
          <a:stretch/>
        </p:blipFill>
        <p:spPr>
          <a:xfrm>
            <a:off x="4700520" y="1685880"/>
            <a:ext cx="3679920" cy="122256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"/>
          <p:cNvPicPr/>
          <p:nvPr/>
        </p:nvPicPr>
        <p:blipFill>
          <a:blip r:embed="rId2"/>
          <a:stretch/>
        </p:blipFill>
        <p:spPr>
          <a:xfrm>
            <a:off x="4726080" y="3343320"/>
            <a:ext cx="3668760" cy="12747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"/>
          <p:cNvPicPr/>
          <p:nvPr/>
        </p:nvPicPr>
        <p:blipFill>
          <a:blip r:embed="rId3"/>
          <a:stretch/>
        </p:blipFill>
        <p:spPr>
          <a:xfrm>
            <a:off x="4713120" y="4940280"/>
            <a:ext cx="36687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unction that inserts a node conta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a linked list, which 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add_to_list(struct node *list, int 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li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A8AF-9417-44DF-8587-28788EE50FA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pointer to the newly created node (now at the beginning of the lis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w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e’ll need to store its return value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add_to_list(first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add_to_list(first, 2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t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updat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rectly, rather than return a new valu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urns out to be tric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4B4A-86EA-4913-9048-10ECD78170A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unction that use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create a linked list containing numbers entered by the us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read_numbers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firs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ri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er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(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erminate)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;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fir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add_to_list(first,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umbers will be in reverse order within the li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CFAA-711B-41E0-B4DD-D29E42A2F5E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oop can be used to search a list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 is often sup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visits the nodes in a linked list, using a pointer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keep track of the “current”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first; p != NULL; p = p-&gt;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of this form can be used in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hat searches a list for an integ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F5AB-BBAF-494F-A7CF-5D497903BB6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find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function will return a pointer to the node conta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otherwise, it will return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itial version of the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list; p != NULL; p = p-&gt;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-&gt;value ==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44CE-9EF5-4304-A62E-FB0E2358683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many other ways to writ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search_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alternative is to eliminate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, instead us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self to keep track of the current nod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 list != NULL; list = list-&gt;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list-&gt;value ==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UL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copy of the original list pointer, there’s no harm in changing it within the fun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D75D-10A7-4AC3-B2D9-C703F32C423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other alterna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 list != NULL &amp;&amp; list-&gt;value !=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 = list-&gt;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lis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we reach the end of the list, retur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rrect even if we don’t fi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EEA0-BBCF-405C-BDE8-8B8E9D2ABF9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Null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of tes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100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== NULL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lloca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;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ak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ppropriat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c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acro (defined in various library headers) that represents the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programmers combine the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p = malloc(10000)) == NULL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lloca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;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ak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ppropriat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c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E905-8610-4266-B338-527219EEFC7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arch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ight be a bit clearer if we use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list != NULL &amp;&amp; list-&gt;value !=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 = list-&gt;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0DEB-C1C3-429C-9A46-4A182DCF54D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ig advantage of storing data in a linked list is that we can easily delete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leting a node involves three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5090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cate the node to be del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509040">
              <a:lnSpc>
                <a:spcPts val="2699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er the previous node so that it “bypasses” the deleted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509040">
              <a:lnSpc>
                <a:spcPts val="2699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reclaim the space occupied by the deleted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p 1 is harder than it looks, because step 2 requires chang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i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various solutions to this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D6F8-5E44-442E-9D8A-D2961D4F40C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“trailing pointer” technique involves keeping a pointer to the previous node (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as well as a pointer to the current node (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list to be searched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integer to be dele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implements step 1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list, prev = NUL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cur-&gt;value != 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loop terminates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node to be deleted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previous n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2FBE-59BA-42F6-A5D8-2E86A06E960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the following appearance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2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8555-3447-4BEC-8825-81C216A9890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6" descr=""/>
          <p:cNvPicPr/>
          <p:nvPr/>
        </p:nvPicPr>
        <p:blipFill>
          <a:blip r:embed="rId1"/>
          <a:stretch/>
        </p:blipFill>
        <p:spPr>
          <a:xfrm>
            <a:off x="1106640" y="2538360"/>
            <a:ext cx="7107120" cy="5857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6" descr=""/>
          <p:cNvPicPr/>
          <p:nvPr/>
        </p:nvPicPr>
        <p:blipFill>
          <a:blip r:embed="rId2"/>
          <a:stretch/>
        </p:blipFill>
        <p:spPr>
          <a:xfrm>
            <a:off x="1104840" y="4255920"/>
            <a:ext cx="714384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rue, 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ointing to a node and the node doesn’t contain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BFBD-F583-4111-A16E-20EBAE319C1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1106640" y="3914640"/>
            <a:ext cx="7115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gain true, s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xecuted once more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w points to the node containing 20, the conditi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false and the loop term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6C20-656E-44FF-AA69-1A12F442AB8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6" descr=""/>
          <p:cNvPicPr/>
          <p:nvPr/>
        </p:nvPicPr>
        <p:blipFill>
          <a:blip r:embed="rId1"/>
          <a:stretch/>
        </p:blipFill>
        <p:spPr>
          <a:xfrm>
            <a:off x="1106640" y="3014640"/>
            <a:ext cx="70927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xt, we’ll perform the bypass required by step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-&gt;next = cur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kes the pointer in the previous node point to the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current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5E0F-49CB-4C6D-AAE4-BA5804961AA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6" descr=""/>
          <p:cNvPicPr/>
          <p:nvPr/>
        </p:nvPicPr>
        <p:blipFill>
          <a:blip r:embed="rId1"/>
          <a:stretch/>
        </p:blipFill>
        <p:spPr>
          <a:xfrm>
            <a:off x="939960" y="4052880"/>
            <a:ext cx="71643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p 3 is to release the memory occupied by the current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cu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4C8C-3D35-464C-BEF1-FC5437D5939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lete_from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uses the strategy just outl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given a list and an integ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function deletes the first node conta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o node contai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lete_from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 no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either case, the function returns a pointer to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leting the first node in the list is a special case that requires a different bypass st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CE95-D20E-4E4F-9713-14914487B9A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6858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delete_from_list(struct node *list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cur, *pre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list, prev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cur-&gt;value !=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cur ==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             /* n was not foun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rev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 = list-&gt;next;       /* n is in the first 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-&gt;next = cur-&gt;next;  /* n is in some other 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cu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7379-B15D-4192-B4AA-C87A419BB62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Null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s test true or false in the same way as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non-null pointers test true; only null pointers are fal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 of wri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== NULL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ould wr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!p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 of wri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ould wr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F7D7-588A-49B8-8A45-2091C106DED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rdered Lis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nodes of a list are kept in order—sorted by the data stored inside the nodes—we say that the list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d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erting a node into an ordered list is more difficult, because the node won’t always be put at the beginning of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searching is faster: we can stop looking after reaching the point at which the desired node would have been lo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381E-003A-43B7-9EF4-8B6DD1A7368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is a modification of the parts database program of Chapter 16, with the database stored in a linked list this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tages of using a linked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need to put a limit on the size of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base can easily be kept sorted by part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original program, the database wasn’t s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96B7-5635-42EC-A582-3713EBF7955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 will contain an additional member (a pointer to the next nod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name[NAME_LEN+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on_h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point to the first node in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inventory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877C-5B8A-4B56-8A2A-EE68245ACB5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of the functions in the new program will closely resemble their counterparts in the original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be more complex, however, since we’ll keep the nodes in the inventory list sorted by part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9F48-210E-4153-9F2B-F904F190AA8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original progra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n index in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new progra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turn a pointer to the node that contains the desired part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doesn’t find the part numb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turn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FAF7-97A5-4E8F-8292-B449C87E819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the list of parts is sorted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stop when it finds a node containing a part number that’s greater than or equal to the desired part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search loo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inventory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 != NULL &amp;&amp; number &gt; p-&gt;numbe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p-&gt;nex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loop terminates, we’ll need to test whether the part was foun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 &amp;&amp; number == p-&gt;numb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6BD5-3840-4B25-BD5C-6FA6648671B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riginal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a new part in the next available array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w version must determine where the new part belongs in the list and insert it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will also check whether the part number is already present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accomplishes both tas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inventory, prev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new_node-&gt;number &gt; cur-&gt;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497B-F725-49A7-BA5F-D751B7AC9B2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the loop terminate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check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qual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both are true, the part number is already in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insert a new node between the nodes pointed to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strategy works even if the new part number is larger than any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ke the original program, this version requir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d_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of Chapter 1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4535-82F1-49C5-92E1-72A25D317EC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 txBox="1"/>
          <p:nvPr/>
        </p:nvSpPr>
        <p:spPr>
          <a:xfrm>
            <a:off x="384120" y="761760"/>
            <a:ext cx="84549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2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Maintains a parts database (linked list versio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"readline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NAME_LEN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name[NAME_LEN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on_ha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n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inventory = NULL;   /* points to first pa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find_part(int 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insert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search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update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print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BB24-FC25-4A09-8402-FAAA639D760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main: Prompts the user to enter an operation code,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then calls a function to perform the requested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action. Repeats until the user enters the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command 'q'. Prints an error message if the user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enters an illegal code.           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;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operation cod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 %c", &amp;co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getchar() != '\n')   /* skips to end of lin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A880-53D8-4BDA-AFDC-8360ECACB71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ally Allocated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often useful for working with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ngs are stored in character arrays, and it can be hard to anticipate how long these arrays need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allocating strings dynamically, we can postpone the decision until the program is ru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F7DD-FAE3-498E-AB51-31EEF6E19E5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witch (cod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i': inser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s': search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u': updat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p': print(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q': 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fault:  printf("Illegal cod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B92F-8526-4D19-9CD6-0952671367B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find_part: Looks up a part number in the inventory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   list. Returns a pointer to the node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   containing the part number; if the part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   number is not found, returns NULL.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find_part(int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inventor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!= NULL &amp;&amp; number &gt; p-&gt;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p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 &amp;&amp; number == p-&gt;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0F82-3BC5-4A3C-928D-ED2F21309D2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insert: Prompts the user for information about a new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part and then inserts the part into the       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inventory list; the list remains sorted by    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part number. Prints an error message and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returns prematurely if the part already exists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or space could not be allocated for the part.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insert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cur, *prev, *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par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Database is full; can't add more parts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umb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ew_node-&gt;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7F8A-04AF-412E-B034-73FA71657C7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inventory, prev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new_node-&gt;number &gt; cur-&gt;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cur != NULL &amp;&amp; new_node-&gt;number == cur-&gt;numb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already exists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new_no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am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d_line(new_node-&gt;name, NAME_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quantity on hand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ew_node-&gt;on_ha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cu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rev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-&gt;next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15F4-E25A-4C39-8C2F-7DBB5A3DE14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search: Prompts the user to enter a part number, then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looks up the part in the database. If the part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exists, prints the name and quantity on hand;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if not, prints an error message.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search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umb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find_part(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ame: %s\n", p-&gt;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Quantity on hand: %d\n", p-&gt;on_ha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ot found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E98F-1CF5-4D8F-A90E-A4EA440ACFB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update: Prompts the user to enter a part number.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Prints an error message if the part doesn't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exist; otherwise, prompts the user to enter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change in quantity on hand and updates the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database.                       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update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, chan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umb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find_part(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change in quantity on hand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chan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-&gt;on_hand += chan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ot found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E032-AE81-4AC6-B140-58D1021EEFC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print: Prints a listing of all parts in the database,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showing the part number, part name, and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quantity on hand. Part numbers will appear in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ascending order.                 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print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umber   Part Name                 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Quantity on Han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inventory; p != NULL; p = p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7d       %-25s%11d\n", p-&gt;number, p-&gt;na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-&gt;on_ha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CCA2-1EDD-438E-81F6-DF09CA9AA92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pter 13 introduced the idea of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ncept of “pointers to pointers” also pops up frequently in the context of linked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particular, when an argument to a function is a pointer variable, we may want the function to be able to modify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ing so requires the use of a pointer to a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9D25-7ABD-4964-A2B9-2EEE4CC8F6F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685800" y="1523520"/>
            <a:ext cx="78357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passed a pointer to the first node in a list; it returns a pointer to the first node in the updated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add_to_list(struct node *list, int 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li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3391-A53D-44D1-A2AD-2A67EFA56FD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y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o that it assig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retur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(first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the point of the call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pied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function changes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making it point to the new nod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not aff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336A-177E-49AC-8C91-576C15888EC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29920" y="76176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locates a block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and returns a pointer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n unsigned integer type defined in the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FA5A-2BBB-4D7F-BAC0-3ECB3775BA3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tt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dify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quires pass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add_to_list(struct node **list, int 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*li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 = 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59AB-E4FE-463C-86C8-C80677E54D1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new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, the first argument will be the addres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(&amp;first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ssigned the addres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e can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an alias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particular, assig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modif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E82F-2FB3-41DF-8031-F40E81CDF2E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doesn’t require that pointers point only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’s also possible to have pointer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occupy memory locations, so every function has an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use function pointers in much the same way we use pointers to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sing a function pointer as an argument is fairly 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93E7-1116-4403-A06B-9D485B0CC34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unction Pointers as Argu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unction name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integrates a mathematical functio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made as general as possible by pass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an argu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integrate(double </a:t>
            </a:r>
            <a:r>
              <a:rPr b="1" lang="en-US" sz="2300" spc="-1" strike="noStrike">
                <a:solidFill>
                  <a:srgbClr val="ff7706"/>
                </a:solidFill>
                <a:latin typeface="Courier New"/>
                <a:ea typeface="新細明體"/>
              </a:rPr>
              <a:t>(*f)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(double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a, double b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arentheses arou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*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 that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 to a fun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alternative prototyp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integrate(double </a:t>
            </a:r>
            <a:r>
              <a:rPr b="1" lang="en-US" sz="2300" spc="-1" strike="noStrike">
                <a:solidFill>
                  <a:srgbClr val="ff7706"/>
                </a:solidFill>
                <a:latin typeface="Courier New"/>
                <a:ea typeface="新細明體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(double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a, double b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ABC4-3DE5-49AE-BD30-FAA07F9D9EC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unction Pointers as Argu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integrat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sine) function from 0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ult = integrate(sin, 0.0, PI / 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function name isn’t followed by parentheses, the C compiler produces a pointer to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in the bod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e can call the function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y = (*f)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(*f)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DEBD-45BF-42D4-A8F8-16C6EA56D79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685800" y="761760"/>
            <a:ext cx="80265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incr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(double (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)(double),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,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x, sum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i, num_interva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intervals = ceil((b - a) / inc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= num_intervals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x = a + i * inc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um += f(x) * inc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A89B-A96C-4819-BDC5-019C6312AB3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of the most useful functions in the C library require a function pointer as an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these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belongs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lib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general-purpose sorting function that’s capable of sorting any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3431-51E8-4AF7-BF95-00CF1C25B0C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told how to determine which of two array elements is “small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is done by pas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pointer to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is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given two pointer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rray elements, the comparison function must return an integer tha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“less than”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“equal to”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“greater than”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7277-A3E4-4F0C-A7DA-C4665812BDE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8"/>
          <p:cNvSpPr/>
          <p:nvPr/>
        </p:nvSpPr>
        <p:spPr>
          <a:xfrm>
            <a:off x="6507000" y="2079720"/>
            <a:ext cx="1710000" cy="31428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9"/>
          <p:cNvSpPr/>
          <p:nvPr/>
        </p:nvSpPr>
        <p:spPr>
          <a:xfrm>
            <a:off x="4481640" y="2079720"/>
            <a:ext cx="1846080" cy="31428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10"/>
          <p:cNvSpPr/>
          <p:nvPr/>
        </p:nvSpPr>
        <p:spPr>
          <a:xfrm>
            <a:off x="2771640" y="2079720"/>
            <a:ext cx="1486080" cy="31428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7"/>
          <p:cNvSpPr/>
          <p:nvPr/>
        </p:nvSpPr>
        <p:spPr>
          <a:xfrm>
            <a:off x="1371600" y="2394000"/>
            <a:ext cx="6324480" cy="30492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(voi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nmemb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(*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comp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(const void *, const void *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point to the first element in the array (or the first element in the portion to be sor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nmem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number of elements to be s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size of each array element, measured in by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comp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 to the comparis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6229-055F-4A64-B3C7-1AC84343BA7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, it sorts the array into ascending order, calling the comparison function whenever it needs to compare array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sort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of Chapter 1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(inventory, num_part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struct part), compare_part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function that compares tw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FBBD-4F10-4FCF-9432-21343E51C8A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39:05Z</dcterms:created>
  <dc:creator>K. N. King</dc:creator>
  <dc:description/>
  <dc:language>en-US</dc:language>
  <cp:lastModifiedBy>YKCHANG</cp:lastModifiedBy>
  <cp:lastPrinted>1999-11-08T20:52:53Z</cp:lastPrinted>
  <dcterms:modified xsi:type="dcterms:W3CDTF">2013-01-06T13:03:25Z</dcterms:modified>
  <cp:revision>1070</cp:revision>
  <dc:subject/>
  <dc:title>No Slide Title</dc:title>
</cp:coreProperties>
</file>