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CBC7-EAE9-4E51-AFDE-DA677944E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F448-F75D-4B7B-81E2-1123021B293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23E7F-A99A-4AAE-B1F4-191912F3437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9B13-5C8E-4B27-80A1-A03689A94E8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F75DD-0AE9-48F8-A140-9BA7D7C16DA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65014-4DF1-48D8-B2F3-CFE97DA583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57C87-FF86-4C52-83B2-0DD0F68836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A5CB6-F159-4FDC-8CFC-011410801B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D440-C733-4AE3-90B6-E79BBEB18E1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5201C-EA30-43C2-98CA-92EC66DC0FA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FDE81-8D6B-4882-9404-AEC6607181B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C19F6-14D9-4FC9-8C19-7DBE5031A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6BF2-F763-4405-A365-5E93EA780DB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5011E-BBB3-4FC2-A3C9-C4120D1B244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4E1A2-A782-4643-84FC-ED21DE9E4F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BD979-D7C3-4EA1-992D-BC13F32BE41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CA8C9-2229-4811-8754-CD83D306DD8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83037-BEE2-4C67-9615-9FC1BF9C21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05CEF-8157-4DF5-AB42-85DA713F92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1407D-FF7F-4BAD-A260-85BE562900B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7FE17-07A2-479C-BDDD-A32C4B152D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CB291-41D4-4E6E-827A-1CDD8C316D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E6B9A-5936-4723-BA80-55FC3882C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139D5-3FD3-41F7-99E0-317C36701E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6AC28-5C30-4C98-A2BF-B5CE65BA6A1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EC6723-2D46-45A3-92A3-8E45629A29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10A114-6ABF-4B8A-8FF5-62BDFE6E87A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309AF9-1101-444B-823A-7BFD363052F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BFBDB5-821F-41DC-9B66-775C27E9F0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D9253-A699-4327-89E5-DA1B823256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610BA6-2FCC-4955-9FED-AD887FB72FB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B6B925-C2D1-458E-B1D3-F5D75346A24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F86BE-9799-419F-A8CD-94F6CF4D041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8A4ECE-8DCE-4510-8932-7668EE68B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1594E-BEA3-42D5-ACB4-EA39F20F9B2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256172-A96D-4CDA-8C49-CC69DCBFE3F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B539EC-003A-49F7-930F-849C52A7B0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6171C4-66CD-4BF1-A12B-6F047155B2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B5FC9-39EF-4B9D-B8C6-55CC5B6009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7A52A-DFED-4184-83A7-3D61FE3D51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D9D7-1826-4986-93A3-FFBFB978BCA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EE965-76E9-45E2-AA9B-32F0708F847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11808-F03B-4F3E-862A-440E7C637D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F72F-5F30-4DD8-B6A0-F101CA9EF04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FB783-9F47-4779-99FE-B86FF8AED9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A5F3B-080F-4AD7-B5C2-5BCEE8BF420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777CC-0B1C-421B-9901-5EFFFAE8037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6EFC2-3DE8-4D61-84FB-7B42A9B144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51DE-B20D-4F7A-9413-821B9F86ACA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91F5C-79B2-44F4-B76D-D615E3EFF05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2F9A-002D-41DB-83B4-26D23D2CF5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3C140-82F1-4429-9DBD-C759AB781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2E613-A707-4A29-BE28-16CC84456A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D562A-87BF-4DE6-AC2C-EB34877F99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DED64-487C-428B-AECA-D2B0986D0D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CC909-36CE-4813-97B5-5F1507B84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ED2F-CD21-411F-B9A1-68F4363DB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FEC00-CA86-48FA-80B6-4809DF09AD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19330-40B0-4959-9E88-FD40B73F00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8EAB2-F32F-4C98-8F36-07ABB0A2CC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3AD45-B6F2-471B-8BA7-9E96936413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021E0-516C-4F6F-8A3E-F647F94F51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0583-E11C-4BD3-96B1-F84F1F0264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9A88-17BC-47F9-89CB-E90AD20789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998A-060D-4328-97F9-1624B5A423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9D47-7887-4964-BC9E-70AEF408A7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A95C-E0BC-4CFC-8E12-0D548D000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DB9E1-1B58-41D5-AE61-646DF0B36F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23DA-3FE5-4FD8-8AEF-80504DF0E3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06E2-4486-4491-8814-111DAC161E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5A9F-E936-4734-A6FD-6DFF4FB81D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2074-6E48-46E2-A051-77AC53E9B8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0BF3-1664-4F76-8ADF-BD94DFFDAD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C936-6A44-4CA4-BDB4-6AB41A5D34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18B2-1FA6-40BE-8ABA-651059FB92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167A3-09E0-450E-B05E-6D48C9F9EA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DC338-5202-48D2-BD6B-CE23341F54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2FC6E-F58A-4427-A9CB-376634531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33A4-7A2F-4ABD-9C7D-AA0DC535AB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77F9E-6BDC-4988-859E-67D32C8743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AC65A-7C7F-40E6-A15B-958D870C9D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BC5F9-5923-4318-9E1B-29D5D659A3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23B98-973C-44BF-9A45-9C7FEC8B23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A2965-D270-43F5-835A-D3FC1E0458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455A7-A7B7-47AB-9DC8-CF058B9C32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895A2-255A-4505-A6B0-E2FA645CE4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90AB2-96B2-4E6A-806E-DD32CB6115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B982C-AA60-4630-BDEA-B8B7CA8DC8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273CB-08DE-46DC-81DF-EE155247C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BC6A-651D-4B8D-B867-122D411F41B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FFDA2-5523-4B22-A354-8C1AD62B29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27B21F-D45B-4624-92A8-A37E245E0B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A0EFD-ECEA-43BA-87D4-C83ECBA43F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0F65B-6A8F-44B5-862A-597C0EA12A3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F1720-332B-47BD-87F2-8BBF94E66C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0A739-067E-4D19-BEBA-149ECD8B2B5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FF76F-AC60-491E-9EC1-F24D6B1DBC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467C6-719C-42AB-9825-8DB9285D79C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FCF6D-5091-4EEA-BE49-11EA21EAE69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936BD7-6588-4CFB-9141-9059C0B37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0271-7A61-49EF-95EE-B6FBC6AFE80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003B1A-D456-40BD-A758-BE6F9EB36B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86F70-CC9A-4B15-AD71-644BFC7C3E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3B3C-A5F8-4A08-9D1E-D41DF28DC4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4599-6911-4CEC-B155-14E3D97DFA6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D703-D4A5-4567-BC57-18DCD42E62D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4958-A199-48B1-9CDE-2D30E62511E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B4763-C151-49A9-8160-3115490B47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74EB-6784-4455-9912-C23A9676AF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1A9D1-A9BE-4B20-BE8E-AFE44FAA13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52CF-8B0D-4372-AA1B-B117E4AE1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225E-8D6A-4D40-BD24-D332BEF968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DF32-AA49-4BD5-9FC2-013531DAB62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CF53-BBA4-4DF8-B96D-8E156BD8F0A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5736B-040A-4BB5-A33A-86DFB1B0D7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FFED7C-8087-4E2C-96BF-932D471A33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298A0-B444-42F3-809C-BA7C5C60B9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3A2814-4BEC-4ABB-87D9-82A1047AA2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49984-C1B0-4A53-B0B6-EA61F5358F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3C70CB-349C-4970-9EF8-EE7AEC734A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8E843-7FE7-476D-ACA6-928530B5DE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FEC07-5322-4B79-8F28-65DB43CDE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0293-15C2-4609-8EC4-B2C45D5108C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479A9-85D4-4DFB-8954-370875D5C1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5CB75-F457-40A1-B6BA-5598CB9BE87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971C3-C25C-4FFD-A969-953521B69F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19A57-2A76-4C52-AD6B-F223EDDFBA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0046A-A52F-4934-9CF5-5BA0C2B27A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7FD58D-C5E8-4E67-9FF5-4754C710CA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70E418-A020-4EF9-B2F7-D0609DB970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3797B6-A757-42D4-8AC0-DC6F37B5B5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E78AC-5B18-45DB-B155-FB6CB0EF833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EF7D8C-7538-41FC-8CA8-0CB6F5F4C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83F5-2E09-47CF-8DDB-46BD19B64B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D72EB9-558A-4B45-A26D-438FDC23B9A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F45178-55A3-40F2-BC13-1CD9993DEC0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84B13-F48D-435F-94F9-6431E7B0B2B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E7067C-04FA-4C1E-828A-255651045B4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A42FA-B485-4E3A-81F6-181148C93A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B45CAA-7D8E-4AEB-9B3D-4BCE2BD74A1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FA9B2F-553C-471A-B50A-2B6F917F4D5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942C-BA9C-4411-AC04-38FBC552FD2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F04D7-BC88-4FA3-A5C7-EAA5D9A7DF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4221C-054B-4C07-B934-B2F100B05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916-128D-4A33-93BD-A329A2CE7F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E5DD-4167-4882-9509-EB6426F5B87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0857-B55F-47D4-B070-815E6D1817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3DD4-55A4-43AE-B180-7AD1878AA4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10DF-EC13-4A43-9EDA-E1C047D9F7A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D4CF-D3D9-4C23-BFA6-FDE6BD3C30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F77E-4776-463A-9282-9827505A96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1EF9-5FB2-437C-B441-25F5808772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ECD4-CE77-4D3B-976E-DED499F9399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3D24-017E-42CB-B0A7-31D311C128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4819-38FC-4289-9FCE-933C2F3DAD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9963-F446-45EB-AE4D-98675FE5FA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1F75-3921-4C1C-A815-1E4318F0BA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22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put/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 and output redirection can be comb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 don’t have to be adjacent to file names, and the order in which the redirected files are listed doesn’t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 in.dat &gt; 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35AA-A998-4773-BFAA-DD7657BC92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read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706B-2146-468E-A784-AA3085C20B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three tables contain sampl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s printed in strikeout are consumed by the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27D9-9A4B-4831-B356-1ABD19D86F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"/>
          <p:cNvSpPr/>
          <p:nvPr/>
        </p:nvSpPr>
        <p:spPr>
          <a:xfrm>
            <a:off x="4165560" y="2741760"/>
            <a:ext cx="12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combine conversion specifications, white-space characters, and non-white-space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 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 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E32A-1A65-4126-9F41-408AFF47E4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12"/>
          <p:cNvSpPr/>
          <p:nvPr/>
        </p:nvSpPr>
        <p:spPr>
          <a:xfrm>
            <a:off x="5372280" y="464652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10"/>
          <p:cNvSpPr/>
          <p:nvPr/>
        </p:nvSpPr>
        <p:spPr>
          <a:xfrm>
            <a:off x="5384880" y="5537160"/>
            <a:ext cx="291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traight Connector 14"/>
          <p:cNvSpPr/>
          <p:nvPr/>
        </p:nvSpPr>
        <p:spPr>
          <a:xfrm>
            <a:off x="5359320" y="2857680"/>
            <a:ext cx="4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traight Connector 10"/>
          <p:cNvSpPr/>
          <p:nvPr/>
        </p:nvSpPr>
        <p:spPr>
          <a:xfrm>
            <a:off x="5370480" y="3746520"/>
            <a:ext cx="291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assignment suppression and specifying a field 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d%d", &amp;i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s%s", str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My•Fair•Lady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Fai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1d%2d%3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&amp;j, &amp;k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2d%2s%2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6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str, &amp;j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34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49B9-41CE-4B4B-96DF-7C84DF7DA40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traight Connector 6"/>
          <p:cNvSpPr/>
          <p:nvPr/>
        </p:nvSpPr>
        <p:spPr>
          <a:xfrm>
            <a:off x="4660920" y="285768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8"/>
          <p:cNvSpPr/>
          <p:nvPr/>
        </p:nvSpPr>
        <p:spPr>
          <a:xfrm>
            <a:off x="4635360" y="3478320"/>
            <a:ext cx="1051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12"/>
          <p:cNvSpPr/>
          <p:nvPr/>
        </p:nvSpPr>
        <p:spPr>
          <a:xfrm>
            <a:off x="4660920" y="406404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traight Connector 14"/>
          <p:cNvSpPr/>
          <p:nvPr/>
        </p:nvSpPr>
        <p:spPr>
          <a:xfrm>
            <a:off x="4660920" y="5245200"/>
            <a:ext cx="90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illustrat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Inpu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i%i%i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k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012•0x12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abc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123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^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*d%d%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•20•30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DE1E-2C66-4CB6-9552-C76351DA254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6"/>
          <p:cNvSpPr/>
          <p:nvPr/>
        </p:nvSpPr>
        <p:spPr>
          <a:xfrm>
            <a:off x="5334120" y="2502000"/>
            <a:ext cx="1536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8"/>
          <p:cNvSpPr/>
          <p:nvPr/>
        </p:nvSpPr>
        <p:spPr>
          <a:xfrm>
            <a:off x="5334120" y="3706920"/>
            <a:ext cx="43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traight Connector 8"/>
          <p:cNvSpPr/>
          <p:nvPr/>
        </p:nvSpPr>
        <p:spPr>
          <a:xfrm>
            <a:off x="5335560" y="4952880"/>
            <a:ext cx="43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traight Connector 8"/>
          <p:cNvSpPr/>
          <p:nvPr/>
        </p:nvSpPr>
        <p:spPr>
          <a:xfrm>
            <a:off x="5348160" y="55627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ask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ad and st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items, we expect its return value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return value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mething went wr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encountered end-of-file before matching the format string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was unable to read characters from the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data item was in the wro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807-3DC7-4306-9571-3BAF3093540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two indicators associated with it: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 indicat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indicators are cleared when the stream is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ing end-of-file sets the end-of-file indicator, and a read error sets the error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rror indicator is also set when a write error occurs on an out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82f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A matching failure doesn’t change eithe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033-7D5C-4345-BDBD-EC85E18F3BB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error or end-of-file indicator is set, it remains in that state until it’s explicitly cleared, perhaps by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lears both the end-of-file and error indi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(fp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dicato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eded often, since some of the other library functions clear one or both indicators as a side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5C5-9A84-476C-A992-D3D0EF1751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can be used to test a stream’s indicators to determine why a prior operation on the stream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nd-of-file indicator is set for the stream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rror indicator is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78C5-EDFC-41A6-AB04-DABC7BF139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smaller-than-expected valu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determine the rea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the end of the input file has been re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a read error occurred during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ither returns a nonzero value, a matching failure must have occu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turn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how many data items were read before the problem occur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5A34-F3E1-4E8B-A5DF-A75E8F0200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problem with output redirection i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ut in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they will appear on the screen even 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redir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0C15-85B9-4FE4-AE97-1062E87A12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example that shows h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arches a file for a line that begins with an inte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ind_int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value of the integer that it finds or an erro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can’t be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line begins with an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AD1B-B8B1-44F4-834B-DE8E836BCB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ind_int(const char *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               /* can't open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fscanf(fp, "%d", &amp;n) !=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rror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2;             /* read err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of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3;             /* integer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*[^\n]");   /* skips rest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0A04-AFA6-4C10-B170-0AF97E730D6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racter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can read and write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work equally well with text streams and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treat characters as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reason is that the input functions indicate an end-of-file (or error) condition by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negative integer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6B37-1BE2-49E0-AAD8-F9789E0BC6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one characte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(ch);    /* writes ch to stdout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a character to an arbitrary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(ch, fp);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fp); 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AB78-6B8D-45AD-9A05-1AA9686A19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is usually a macr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putchar(c) putc((c), stdou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 standard allows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to evaluate the stream argument more than once, whic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permitted to d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gives a faster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write error occurs, all three functions set the error indicator for the stream and retur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they return the character that was writt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5926-16BE-4EFC-BC66-41860DBDDE9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a character from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har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a character from an arbitrary strea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f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three functions treat the character as 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(which is then converted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before it’s returned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they never return a negative value other th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A658-BCAE-46D9-9DC9-FAD8C4DA8F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rmally a macro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getchar() getc(std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C420-4E6A-44E3-BF70-A983C2EDA69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behave the same if a problem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end-of-file, they set the stream’s end-of-file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read error occurs, they set the stream’s error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fferentiate between the two situations, we can call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8C94-9BF6-45E2-97E5-0365204A18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most common us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read characters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for that 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fp)) != EOF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store the return value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no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st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give the wrong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6CC7-1070-4B8C-B5A4-BEB7F90D5FD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“pushes back” a character read from a stream and clears the stream’s end-of-file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digits, stopping at the first nondig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isdigit(ch = getc(fp)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(ch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ushes back last character rea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E406-8D66-4492-BE45-0E71CC6301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upports two kinds of files: text and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ytes 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 characters, allowing humans to examine or edit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ource code for a C program is stored in a tex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nary fi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don’t necessarily represent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oups of bytes might represent other types of data, such as integers and floating-point numb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ecutable C program is stored in a binary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104-A475-45CB-B80E-73CCCA673F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characters that can be pushed back by consecutiv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es; only the first call is guaranteed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a file-positioning func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causes the pushed-back characters to b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haracter it was asked to push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attempt is made to push bac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to push back more characters than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D68-693D-4AB9-AA20-F0CCBF71E8E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makes a copy of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ames of the original file and the new file will be specified on the command line when the program i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1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 f1.c f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ssue an error message if there aren’t exactly two file names on the command line or if either file can’t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0B89-899B-48B5-AF78-C531F7BE018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le modes enabl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both text and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u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, the program wouldn’t necessarily be able to copy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A9A3-124C-45AC-886C-095223CFEA3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opies a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source_fp, *dest_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usage: fcopy source des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C8E8-FC78-4C43-A83C-46DC81D0102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source_fp = fopen(argv[1], "r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dest_fp = fopen(argv[2], "w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source_fp)) != 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44FA-55BE-4549-8DA5-F90783DBC3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e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brary functions in the next group are able to read and write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are used mostly with text streams, although it’s legal to use them with binary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6DC3-87E9-464C-AB33-86FD220C781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a string of charact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("Hi, there!");  /* writes to stdout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it writes the characters in the string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adds a new-line charact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669D-FD80-4FBA-B093-D4F43E468C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s second argument indicates the stream to which the output sh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("Hi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re!"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doesn’t write a new-line character unless one is present in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write error occurs; otherwise, they return a non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0BC3-8D15-4687-A8E9-6D169C3BDC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ads a line of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(str); /* reads a line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one by one, storing them in the array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ntil it reads a new-line character (which it discar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read from any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saf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ince it limits the number of characters that it will 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E928-997A-4A07-8A19-E75564D28B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a line into a character array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characters until it reaches the first new-line character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have been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reads the new-line charac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it along with the other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276-881D-41F7-A134-8D0C1CFD0F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have two characteristics that binary files don’t poss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are divided into lin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line in a text file normally ends with one or two speci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ndows: carriage-return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line-feed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IX and newer versions of Mac OS: line-feed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er versions of Mac OS: carriage-return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5F7B-178C-44B5-9B56-7AF2985BBB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 a null pointer if a read error occurs or they reach the end of the input stream before storing an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both return their first argument, which points to the array in which the input was sto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store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B01D-C3A1-45B8-8501-BD567F5F84A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be used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most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fe to use only when the string being rea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uarant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it into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re’s no guarantee (and there usually isn’t), it’s much safer to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from the standard input stream if pas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its third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2EE8-8DC7-4431-AC57-52A4001379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read and write large blocks of data in a single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used primarily with binary streams, although—with care—it’s possible to use them with text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2B03-784F-4F73-88B7-2C5D973BFD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signed to copy an array from memory to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s in 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ress of arr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ze of each array element (in byt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elements to wri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the entire contents of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CAE1-BF21-4C9F-BFDF-20E8375499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elements actually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will be less than the third argument if a write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4376-54D8-4F3E-8503-EC57A3F02F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the elements of an array from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the contents of a file into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read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indicates the actual number of elements re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should equal the third argument unless the end of the input file was reached or a read error occurr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D5D2-5A53-4083-BF82-335D36B11B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venient for a program that needs to store data in a file before termin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ter, the program (or another program)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ad the data back into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ata doesn’t need to be in arra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a structur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&amp;s, sizeof(s), 1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C26D-4985-4925-8F5B-96D1E5D3865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an associa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si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, the file position is set at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“append” mode, the initial file position may be at the beginning or end, depending on the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read or write operation is performed, the file position advances automatically, providing sequential acces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5061-14D9-4C31-A1D2-D9FD7DC3CD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sequential access is fine for many applications, some programs need the ability to jump around within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contains a series of records, we might want to jump directly to a particular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five functions that allow a program to determine the current file position or to chang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6C3-4AE4-4D90-9ED1-A0EE4DDF449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hanges the file position associated with the first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hird argument is one of three mac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ginning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fil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argument,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a (possibly negative)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45319-963F-41B4-BA4D-730B66E3C9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may contain a special “end-of-file” mar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the marker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1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Ctrl-Z), but it is not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ther operating systems, including UNIX, have no special end-of-file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binary file, there are no end-of-line or end-of-file markers; all bytes are treated eq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39BE-B257-491A-A2C6-3321DB88FB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beginning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end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E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back 10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-10L, SEEK_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rror occurs (the requested position doesn’t exist, for example)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B20D-10B1-4D7E-95DA-0EF8515E5A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le-positioning functions are best used with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prohibit programs from using them with text streams, but certain restriction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text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only to move to the beginning or end of a text stream or to return to a place that was visited previ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binary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required to support calls in which the third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5A94-3FA3-4B66-A7EB-AF465D8601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turns the current file position as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alue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be saved and later supplied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 = ftell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file_pos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44CE-D6F7-498C-A996-4FE10322218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binary stream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urrent file position as a byte count, where zero represents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text stre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cessarily a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it’s best not to perform arithmetic on values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029D-E7B6-438A-8A7D-CD9AAD1F7DC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sets the file 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early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L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fference?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return a value but does clear the error indicato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B7EF-4584-4533-920B-6C9A446FBD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limited to files whose positions can be stored in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working with very large files, C provides two additional function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an handle large files because they use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present file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isn’t necessarily an integer; it could be a structur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7271-D86D-4D82-BBB0-0C85FC2066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position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ts the file position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value sto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ails, it stores an error cod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when they succeed and a nonzero value when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C582-18DA-4F1E-A0A3-25DD8B7241D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ave a file position and return to it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2052-441B-453A-B33A-B4A72EC49C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odifying a File of Part Record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ons perform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s a binary file containing part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s the structures into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n_h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each structur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structures back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opens the fil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, allowing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0CFB-0B02-4A77-A4E8-363C754F79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odifies a file of part records by setting 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n hand to zero for all record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PART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inventory[MAX_PAR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_par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3639-B0F4-4007-BDC3-6CF5FBF9B2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can be stored in text form or in binar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store the number 32767 in a file would be to write it in text form as the characters 3, 2, 7, 6, and 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3377-649C-4502-AE29-1BB1F37EA6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1190520" y="3924360"/>
            <a:ext cx="6696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"inventory.dat", "rb+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inventory fil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parts = fread(inventory, sizeof(struct part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X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parts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[i].on_ha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inventory, sizeof(struct part), num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C68-61D6-46F8-87B5-8A154B5D0B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described in this section can read and write data using a string as though it were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characters into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from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18E1-A60F-42DB-B07B-C6C57B83DD7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similar func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lso belong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 are discussed in Chapter 2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4F74-186D-4491-B604-85516DA4A15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output into a character array (pointed to by its first argument) instead of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writ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9/20/2010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te, "%d/%d/%d", 9, 20, 20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dds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the number of characters stored (not counting the null charac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6744-3F44-46B8-B9FD-346BA983AA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format data, with the result saved in a string until it’s time to produc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convenient for converting numbers to characte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FAB9-0C33-474E-A5C4-FD9911CB5D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(new in C99) is the same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xcept for an additional second parameter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more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will be written to the string, not counting the terminating null character, which is always written unle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(name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3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%s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s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Albert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, Al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written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CF8F-FC4B-4623-851A-FD6E19A29F8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characters that would have been written (not including the null character) had there been no length restr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ncoding error occu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d room to write all the requested characters, we can test whether its return value was nonnegative and less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EF3-8037-4B61-B9FC-F89A8A2129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a string (pointed to by its first argument) instead of reading from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is a format string identical to that us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02CC-F77F-4D07-822C-38A6B196B6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extracting data from a string that was read by another inpu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a line of input, then passes the lin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further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a line of inp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(str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extracts two integer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056D-7315-46D5-BEF0-B5DC718524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dvantage of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we can examine an input line as many times as need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makes it easier to recognize alternate input forms and to recover from err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reading a date that’s written either in the form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no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ope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m\n")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3F8-E61F-4AF2-A825-ED754AD9E3A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ther option is to store the number in binary, which would take as few as two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ing numbers in binary can often sav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633A-64BF-42B5-9C91-8B08407B7D2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3187800" y="2552760"/>
            <a:ext cx="2703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data items successfully read and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it reaches the end of the string (marked by a null character) before finding the firs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B276-325D-4392-8690-A25229154AC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that read from a file or write to a file must take into account whether it’s text or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displays the contents of a file on the screen will probably assume it’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ile-copying program, on the other hand, can’t assume that the file to be copied i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, binary files containing an end-of-file character won’t be copied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n’t say for sure whether a file is text or binary, it’s safer to assume that it’s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B944-DCBF-43B1-9E50-E3AD4A1A9F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is one of the attractions of input and out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fortunately, redirection is too limited for man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program relies on redirection, it has no control over its files; it doesn’t even know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 doesn’t help if the program needs to read from two files or write to two files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redirection isn’t enough, we’ll use the file operation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BD4-13E6-40BF-98A0-31B4988373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ing a file for use as a stream requires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open(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filenam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mod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ame of the file to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argument may include information about the file’s location, such as a drive specifier o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“mode string” that specifies what operations we intend to perform o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6EF5-80EA-4FF9-A887-2604AEA5E24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input/output library is the biggest and most important part of the standard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is the primary repository of input/output functions, inclu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chapter provides more information about these six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also introduces many new functions, most of which deal with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4A46-D6E4-4FE9-AC87-791B7376A85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ppears twice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C99 keyword, indicat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point to strings that don’t share memory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conta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ut is otherwise 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it can usually be ig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D07F-41DE-4F07-A8AE-D5631B74BB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be careful when the file name in a call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clud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project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fail, beca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eated as a character esca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avoid the problem is to 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\project\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is to use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/project/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95B0-E633-4118-860F-D342B9379E8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the program can (and usually will) save in a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"in.dat", "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opens in.dat for reading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can’t open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64A8-0F32-4B76-A663-F127AA3D00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tors that determine which mode string to pas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operations are to be performed o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ther the file contains text or bin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7BF2-991B-4B30-96E4-D66C2798F4C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text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028A-93D4-4D35-AF27-91ABBC446C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binary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5B64-1C19-4A48-B852-A018901BA5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there are different mode string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e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normally overwrites what was previously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 for appending, data written to the file is added at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6DCC-F9A3-4BD1-985E-7A898334FC8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apply when a file is opened for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reading to writing without first calling a file-positioning function unless the reading operation encountered the end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writing to reading without either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calling a file-positioning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B12B-E63E-4071-BAF1-F54A5C9250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a program to close a file that it’s no longer u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rgum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file pointer obtained from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the file was closed success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 returns the error co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A27A-55F7-4753-9F9F-3CB76C1252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utline of a program that opens a file for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FILE_NAME "example.da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FILE_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Can't open %s\n", FILE_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B45-9A26-4374-9B42-2214D4DBC8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ics to be 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input and output redirection, and the difference between text files and bin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designed specifically for use with files, including functions that open and clos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perform “formatted”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read and write unformatted data (characters, lines, and b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dom access operations on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write to a string or read from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1D08-4FF1-475D-B353-711D959D38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not unusual to se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mbined with the declar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_NAME, "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the test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FILE_NAME, "r"))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B749-A901-4980-91CE-0F444B65B7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aches a different file to a stream that’s already o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ost common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associate a file with one of the standard stream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uses a program to begin writing to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freopen("foo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1CA3-860F-4FBE-89AF-0C3F773C6C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normal return value is its third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open the new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BD88-4E4C-423D-99BC-BD31F93F7A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adds a new twist: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empts to change the stream’s mode to that specifi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s aren’t required to support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y do, they may place restrictions on which mode changes are permit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3AF-6CEE-462F-AB1F-F90B4B3075B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several ways to supply file names to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ing file names into the program doesn’t provide much flex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mpting the user to enter file names can be awk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the program obtain file names from the command line is often the bes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the command line to supply two file names to a program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names.dat dates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8EA8-8435-431A-BE0C-D0B5A37907A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showed how to access command-line arguments by def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 function with two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command-lin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array of pointers to the argument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3DE-30E0-4F17-AE18-71D4F973B5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0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ogram nam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roug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-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remaining arguments,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3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6FBB-D4A8-40F7-AF78-76DE35B7150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1639800" y="3809880"/>
            <a:ext cx="57769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hecking Whether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 File Can Be Opened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determines if a file exists and can be opened for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r will give the program a file name to 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will then print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user enters the wrong number of arguments on the command line, the program will print the mess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s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5762-AC92-4D74-A22D-8A37ACE82B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hecks whether a file can be opened for read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usage: canopen filenam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argv[1], "r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't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CCC1-3D13-47E8-9BA6-D06B47F8B31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often need to create temporary files—files that exist only as long as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wo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for working with tempor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0F4A-7F0D-4CA3-9A10-77D65CC4B7C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some I/O functions belong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deal with wide characters rather than ordinar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 or write data a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input/output fun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e-character input/outpu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CE87-4AB5-4C16-8B87-DE7FE3B155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 a temporary file (ope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) that will exist until it’s closed or the program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can be used to access the file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temp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empptr = tmpfi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create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8F0C-84A6-46C7-BC3B-0A25CD25232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backs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know the name of the file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decide later to make the file perma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lternative is to create a temporary file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useful for ensuring that this file doesn’t have the same name as an existing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C23B-007C-4D4B-A126-13D1982017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enerates a name for a temporary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s argument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name in a static variable and returns a pointer to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file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 = tmpnam(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96F0-1199-4ADF-A96D-4CFF6DDBC3A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pies the file name into a character array provided by the programm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filename[L_tmpnam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file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is ca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returns a pointer to the first character of this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_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pecifies how long to make a character array that will hold a temporary fi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2CF7-B1C5-488D-AE11-DBFED45554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_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(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pecifies the maximum number of temporary file names that can be generat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generate a file nam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66A0-AAC1-43DA-B3E5-E430E0E920D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erring data to or from a disk drive is a relatively slow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ret to achieving acceptable performa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written to a stream is actually stored in a buffer area in memory; when it’s full (or the stream is closed), the buffer is “flush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streams can be buffered in a similar way: the buffer contains data from the input device; input is read from this buffer instead of the device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CC12-C02B-4E89-BF8A-4E2E24E8E5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 can result in enormous gains in efficiency, since reading a byte from a buffer or storing a byte in a buffer is very 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ime to transfer the buffer contents to or from disk, but one large “block move” is much faster than many tiny byte m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erform buffering automatically when it seems advantage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rare occasions, we may need to use the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2B19-1565-4982-8E0C-EDD07A8CEB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 program can flush a file’s buffer as often as it wi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the buffer for the file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fp);   /* flushes buffer for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utput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NULL);  /* flushes all buffers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1904-FACB-4FB2-8D8C-8EA1AA336A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ws us to change the way a stream is buffered and to control the size and location of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’s third argument specifies the kind of buffering des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full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L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line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ll buffering is the default for streams that aren’t connected to interactiv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C480-BDAD-4328-B162-63F35A6281F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(if it’s not a null pointer) is the address of the desired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uffer might have static storage duration, automatic storage duration, or even be allocated dynam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last argument is the number of bytes in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976B-34EA-4B7F-936E-EDF2FC34099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eam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, the ter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ans any source of input or any destination for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small programs obtain all their input from one stream (the keyboard) and write all their output to another stream (the scre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rger programs may need additional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 often represent files stored on variou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y could just as easily be associated with devices such as network ports and pr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1E79-E11A-4CAC-9E93-9721526BF2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hanges the buffe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ull buffering,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as the buff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buffer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 buffer, _IOFBF,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called 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pened but before any other operations are performe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400A-A63E-4AFE-888A-8361C085B02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also legal to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a null pointer as the second argument, which request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 a buffer with the specifie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a nonzero value i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gument is invalid or the request can’t be ho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D14C-88B3-4B1B-87D4-2892FE2E21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older function that assumes default values for the buffering mode and buffer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(stream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’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sidered to be obso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E876-A5C2-4DD6-9836-4844DA9E24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perform basic file management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most other functions in this sec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 with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if they succeed and a nonzero value if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DDF0-570B-42D6-8989-18B04C713B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letes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eletes the file named "foo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program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create a temporary file, it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delete the file before the progra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ffect of removing a file that’s currently open is implementation-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F817-42CC-4230-84AE-19DD21DD9A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nges the name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("foo", "ba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names "foo" to "bar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renaming a temporary file cre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program should decide to make it perma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with the new name already exists, the effect is implementation-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fail if asked to rename an open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AB3-328D-4990-847B-3982DEA5A20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ormatted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use format strings to control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numeric form to character form during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character form to numeric form during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5AB-241D-40AC-950A-3AE7ECFF99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rite a variable number of data items to an output stream, using a format string to control the appearance of the outpu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both functions end with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..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ymbol (an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ips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hich indicates a variable number of additional argumen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printf(FILE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stre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printf(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the number of characters written; a negative return value indicates that an error occurr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D2FB-210E-4A2C-861E-032DBD613E6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wri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to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stdo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fp, 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C47-76A2-4A27-944A-EFF34496140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s with any out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its most common uses is to write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rror: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.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a messag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it will appear on the screen even if the user redirec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3A51-B7E1-49AA-88E7-AAAAE10576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stream is done through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tain streams are represented by file pointers with standar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file pointers can be declared as nee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1, *f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62C4-6F0B-4CE8-842A-E3C447815D4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othe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write formatted output to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,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re fairly obs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’re discussed along with that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6D8E-D1CB-4F28-AA7D-86A9672D59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 a format string containing ordinary characters and/or conversion spec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inary characters are printed a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describe how the remaining arguments are to be converted to character form for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9038-EC2E-480C-BD22-F2BA166F46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, followed by as many as five distinct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D2A8-A6B2-4EB5-808D-DFD1CBA706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6" descr=""/>
          <p:cNvPicPr/>
          <p:nvPr/>
        </p:nvPicPr>
        <p:blipFill>
          <a:blip r:embed="rId1"/>
          <a:stretch/>
        </p:blipFill>
        <p:spPr>
          <a:xfrm>
            <a:off x="2411280" y="2994120"/>
            <a:ext cx="423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; more than one permitt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ft-justify within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produced by signed conversions always begin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negative numbers produced by signed conversions 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eded by a sp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 numbers begin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nzero hexadecimal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Floating-point numbers always hav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Trailing zeros aren’t removed fr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nted with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are padded with leading zeros up to the field wid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ero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7A99-88F0-41E5-B53E-8134FE6202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An item that’s too small to occupy the field will be p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default, spaces are added to the left of the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tem that’s too large for the field width will still be displayed in its entir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eld width is either an integer or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resent, the field width is obtained from the next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F5A-3CAE-4038-B28B-D787385824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The meaning of the precision depends on the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number of digits (leading zeros a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ed if the number has fewer digit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digits after the decimal poi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significant dig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number of by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ecision is a period (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an integer or the charact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ff7706"/>
              </a:buClr>
              <a:buFont typeface="Times New Roman"/>
              <a:buChar char="–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If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*</a:t>
            </a: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 is present, the precision is obtained from the next argu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6E75-8BB9-453D-8CDB-682CB68C4E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item to be display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rmally refers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1404-74D7-4F8B-8202-AAA59C4D8F7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int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eff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C99E-FB8C-423A-B1EA-04E7F15CACF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-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2B81-9733-4AD5-A1EF-86090634F1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one of the characters in the following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d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o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u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base 8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 10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or base 16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xadecimal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m in upper cas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, put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cimal point in the correct position. If no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25D2-6E5A-40F0-A0C3-A29198D7CAE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hree standard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ault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reams are ready to use—we don’t declare them, and we don’t open or clo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715B-4DF0-4D1B-A696-2CE2F095D8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scientific notation. If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e let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eith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ooses betwee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hexadecimal scientif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ation using the form [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hh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hex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m i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per case. The choic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affects the cas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4E49-DC07-483F-982F-0701852D75B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play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as an unsigned charact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s pointed to by the argument. Sto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when the number of bytes specified by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(if present) is reached or a null character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printable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4000" spc="-1" strike="noStrike">
                <a:solidFill>
                  <a:srgbClr val="b82f25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ten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produces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7C9D-07B3-4877-AD8E-EDB0F8B99A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write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ly undefined conversion specifications now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37A4-8459-42CE-8300-2DF5855AED5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flags o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–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•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+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0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081E-33FF-4EDA-B919-045B666753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lag o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98C8-2734-4FC4-A1C4-86E7B6F9163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minimum field width and precision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     Result of App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          Conversion to              Convers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ogus"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uzzwor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bogu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s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og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•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•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313F-86E1-42EB-B3DD-9988F62A3F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how 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displays some numb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and oth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                   Conversion to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6.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.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.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.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.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.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B30-DDF6-4D58-A531-D36797E7252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inimum field width and precision are usually embedded in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t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where either number would normally go allows us to specify it as an arg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produce the sam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4d"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4d", 6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*d"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*d", 6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3856-F074-41CD-A4DB-220FED67391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major advantag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it allows us to use a macro to specify the width or prec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IDTH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idth or precision can even be computed during program 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ge_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cols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872F-A27D-4703-9220-AC89495AC76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print the value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p", (void *)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isplays value of pt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ointer is likely to be shown as an octal or hexadecimal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D9B6-0F8D-43B3-887E-DE75136DCC2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/O functions discussed in previous chapters obtain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send outpu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perating systems allow these default meanings to be changed via a mechanism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B6A-6175-4C35-BD5F-562A5E7559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find out how many characters have been printed so far by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llowing call,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d%n\n", 123, &amp;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ABDB-2579-4D34-A8F3-2F3409B537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data items from an input stream, using a format string to indicate the layout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rmat string, any number of pointers—each pointing to an object—follow as additional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items are converted (according to conversion specifications in the format string) and stored in thes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65F4-CE9A-49E7-821A-316D7B16AC0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reads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E0B1-64C0-4068-8251-37137EB09D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s that 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to return prematur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more input characters could be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input characters didn’t match the format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an input failure can also occur because of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ding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5C96-712C-482C-9188-A14DC8C541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turn </a:t>
            </a: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the number of data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ere read and assigned t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input failure occurs before any data items can be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that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are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integers one by one, stopping at the first sign of trou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scanf("%d", &amp;i) == 1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4389-29B0-4324-AB04-E70C3AB2732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semble thos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ork differ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represents a pattern tha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ttempts to match as it reads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input doesn’t match the format string, the function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put character that didn’t match is “pushed back” to be read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D236-4695-4D9E-BD86-3A1C95536E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may contain three th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0970-817D-4DC9-AF25-51CAA7B6CCA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s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resemble those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onversion specifications skip white-space characters at the beginning of an input item (the exception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never ski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i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te-space character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4D38-355E-4CC3-9422-55001517C4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ne or more white-space characters in a format string match zero or more white-space characters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non-white-space character oth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the same character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4E7D-0BD2-46A0-9507-BBD6014D168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ISBN %d-%d-%ld-%d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s that the input will consist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ISB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sibly some white-space charac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ng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F6E2-5369-4A58-B11D-98463341A8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technique for forcing a program to obtain its input from a file instead of from the keybo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re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data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now go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ut.d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ile instead of appearing o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AEDC-12F3-49D5-A955-293F9ED2802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llow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Signif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ignment suppress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 input item is read but not assigned to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ms matche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n’t included in the count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8F18-D0EA-4B86-AB67-E73C4BA0EAB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Limits the number of characters in an inpu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 skipped at the beginning of a conversion don’t 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object in which the input item will be stor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able on the next slide lists each length modifier and the type indicated when it is combined with a conversion specif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532-27E3-4B71-A78C-E1F5DA9BF5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-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21A5-3313-4AF0-917E-4819D6E4BE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Must be one of the characters in the following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integer;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The integer is assumed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be in base 10 unless it begins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dica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) or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hexadecimal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octal integer; the corresponding argumen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54F4-7021-4C09-9359-417866A713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hexadecimal integ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unsigne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floating-point numb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, whe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maximum fiel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th, or one character if no field width is specifie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 (or a character object, if no field width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d). Doesn’t add a null character at the en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sequence of non-white-space characters,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s a null character at the end.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be a pointer to a 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B577-39E7-44C5-AFC3-96A470B326D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nonempty sequence of characters from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, then adds a null character at the en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pointer value in the form tha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uld have written it.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be a pointer to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No input is consum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the return valu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affec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F92E-415B-4DAC-B2F6-8C5B66A9ACD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data items can always begin with a sig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s convert the item to unsigned form, however, so they’re not normally used to read nega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985-8B95-48F5-85A2-1EA0F928F3A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 is a more complicated (and more flexible) version of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nversion specification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rm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any set of characte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not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containing only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that doesn’t conta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C686-8F4D-4ECB-8185-E3482AFE03B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re closely related to the numeric conversion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onvert strings (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-29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their equivalent numeric values (–29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, for example, looks for an optio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ign, followed by decimal digits; this is the same form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t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qu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E1E2-925D-4C79-AB85-FECCA1E1AC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nd numeric convers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Convers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8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6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1B00-6242-47B6-A833-BD808CC2654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8T15:25:10Z</dcterms:modified>
  <cp:revision>1371</cp:revision>
  <dc:subject/>
  <dc:title>No Slide Title</dc:title>
</cp:coreProperties>
</file>